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67C-E979-44AF-B041-25E4FB9F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299-C621-45E8-A7D9-746582D2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1B2-40F7-4AA2-B7A8-B30E11AF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E6D-49E9-418C-AB23-555BC385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B37-D05E-40C7-8316-C1622A36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92A-F857-4E30-951D-D38541BE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59E-A762-4C8B-B0BE-E3F4335E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FB8-EB54-40D7-8113-5EC88DC1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5BC-855E-4B87-B592-A9BF3266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A10-0EB1-47B1-8FBC-9E757E5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10C-D587-427B-9CF7-B673AB07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B41-80C3-4447-A894-E3B32B0D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B9F7-869A-4C78-A49C-654BC3A71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600200"/>
            <a:ext cx="3733920" cy="286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3-30-12 Use the gov. chart from yester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branch of our gov. makes the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House of Rep. AND the Senate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advises the Presid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0"/>
            <a:ext cx="6553080" cy="162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3-3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No home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Get out Constitution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atapulta_large"/>
          <p:cNvPicPr/>
          <p:nvPr/>
        </p:nvPicPr>
        <p:blipFill>
          <a:blip r:embed="rId1"/>
          <a:srcRect l="7059" t="0" r="0" b="17461"/>
          <a:stretch/>
        </p:blipFill>
        <p:spPr>
          <a:xfrm>
            <a:off x="3733920" y="0"/>
            <a:ext cx="5638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0" y="6384960"/>
            <a:ext cx="5105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constitutionfacts.com/index.cfm?page=quiz.cf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0" y="6384960"/>
            <a:ext cx="5105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constitutionfacts.com/index.cfm?page=quiz.cf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495680" y="4876920"/>
            <a:ext cx="3886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bbc.co.uk/schools/romans/army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21337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28600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gis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28600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21:37Z</dcterms:created>
  <dc:creator>sramsey</dc:creator>
  <dc:description/>
  <dc:language>en-US</dc:language>
  <cp:lastModifiedBy>poweruser</cp:lastModifiedBy>
  <dcterms:modified xsi:type="dcterms:W3CDTF">2012-03-30T12:31:27Z</dcterms:modified>
  <cp:revision>10</cp:revision>
  <dc:subject/>
  <dc:title>Agenda, Mar. 2, 2006</dc:title>
</cp:coreProperties>
</file>